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9DE-6F19-456D-8FAB-883DD793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3CF-591E-4478-9C77-7BB0D7C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42F-0457-4573-A47C-7EDBDF73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CA7-9CD7-410C-AA4E-A712C6D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79E-F21E-4D7B-B323-3B85E42F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D35-F8E1-441E-84FF-4211A52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49F-866E-406F-833B-CD260BE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C94-0ABE-4CF9-A5F2-C1D855D5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22B-8EF5-45C8-BFBD-F387AF4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588-6056-42E5-A4A9-81B592D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6E3-9239-40E6-8860-EB7A73D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B40-D2CB-4645-AD41-D5AD1DE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49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2A0-F9F2-4151-93FF-78AEA07F2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49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&amp;4 - n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unji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njin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fer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76600" y="311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49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&amp;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sleep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 is more intensive than stage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wave ( delta w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wave occurs accounting for 50 % or more of the EEG record during this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 w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49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52760" cy="3988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deep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0-45 minutes after you first fall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o awaken compare to stage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49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large brain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3244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0:39:06Z</dcterms:created>
  <dc:creator>Yunji Park</dc:creator>
  <dc:description/>
  <dc:language>en-US</dc:language>
  <cp:lastModifiedBy>Yunji Park</cp:lastModifiedBy>
  <dcterms:modified xsi:type="dcterms:W3CDTF">2008-10-07T01:04:09Z</dcterms:modified>
  <cp:revision>2</cp:revision>
  <dc:subject/>
  <dc:title>Stage 3&amp;4 - nREM</dc:title>
</cp:coreProperties>
</file>